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C52-151C-4B6E-915C-AAB1A567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A64-8406-4211-A0BF-A67C8CD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4BE-171C-45A8-9737-B26DC05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613-48CC-478A-BC5A-28A4ADFD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8DB-E3DD-472D-B4D3-78A0D595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F58A-E375-4892-8448-B54CE30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7EC-154D-4E5B-9D30-B07B2C8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739-ADF4-48B9-BAB7-21455CF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3353-EA22-4FC8-A06C-0FDC092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65D0-D83B-429D-8D01-AD47769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31AA-F8B9-4A9B-85F5-FDE26CB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894-F554-49A8-AF6B-9FEF2406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EE4C-6166-4E7A-B056-4A8B975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E1AC-D95C-444E-8046-311DB3E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F237-25F5-4E7B-A293-2DAA4213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DDB6-73A0-45AA-AF6C-33B4F584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0E3-3866-44BC-919B-7C0C392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8724-12A9-49B2-8051-1D3E8D2F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D03B-CDFE-4BA7-86E7-0C8D6CD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1CA1-0E43-40D7-8735-005072F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C272-D223-4A0E-91AA-CE69457A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7C2C-C0F8-443A-9C29-C8063A42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37E-6005-46CE-B513-7AFC9DA2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D4FC-5EF2-4B81-866A-43208E4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6B46-E976-41C2-AB74-543A4EF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F10A-8F90-4ADD-9EFE-9818B9B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01F3-FC4A-4DCF-980A-83DD6E1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94FE-ECB3-4AD2-8A51-E74FDA2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8B97-FD1E-413A-BCF9-083FFF7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F248-AD94-4E0B-A46A-9F16A5D8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87D-7B43-4C77-8F97-B0F277B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68D-8500-4954-BA32-367A341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32C-04DD-4180-8D84-90FE57F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BC2-4315-4441-BB54-02C72C4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8BE-E200-4325-850C-AF0FE6B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D6F-565B-4C06-A9F1-79F7477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A23D-205A-4A7B-BE59-8A771C1A7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CA3-5AAA-4464-A82A-BC4DF1CD1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DB6-7EFB-4381-8BA5-23F8F79A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fluence of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52040" y="1315440"/>
            <a:ext cx="7944120" cy="4914360"/>
            <a:chOff x="752040" y="1315440"/>
            <a:chExt cx="7944120" cy="4914360"/>
          </a:xfrm>
        </p:grpSpPr>
        <p:sp>
          <p:nvSpPr>
            <p:cNvPr id="147" name="_s77829"/>
            <p:cNvSpPr/>
            <p:nvPr/>
          </p:nvSpPr>
          <p:spPr>
            <a:xfrm flipH="1">
              <a:off x="2738160" y="3772440"/>
              <a:ext cx="992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7830"/>
            <p:cNvSpPr/>
            <p:nvPr/>
          </p:nvSpPr>
          <p:spPr>
            <a:xfrm>
              <a:off x="752040" y="3158280"/>
              <a:ext cx="1985760" cy="1228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7831"/>
            <p:cNvSpPr/>
            <p:nvPr/>
          </p:nvSpPr>
          <p:spPr>
            <a:xfrm>
              <a:off x="4723920" y="4386600"/>
              <a:ext cx="0" cy="61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77832"/>
            <p:cNvSpPr/>
            <p:nvPr/>
          </p:nvSpPr>
          <p:spPr>
            <a:xfrm>
              <a:off x="3731040" y="5001480"/>
              <a:ext cx="1985760" cy="1228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7833"/>
            <p:cNvSpPr/>
            <p:nvPr/>
          </p:nvSpPr>
          <p:spPr>
            <a:xfrm>
              <a:off x="5716800" y="3772440"/>
              <a:ext cx="992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77834"/>
            <p:cNvSpPr/>
            <p:nvPr/>
          </p:nvSpPr>
          <p:spPr>
            <a:xfrm>
              <a:off x="6709680" y="3158280"/>
              <a:ext cx="1986480" cy="1228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7835"/>
            <p:cNvSpPr/>
            <p:nvPr/>
          </p:nvSpPr>
          <p:spPr>
            <a:xfrm flipV="1">
              <a:off x="4723920" y="2544120"/>
              <a:ext cx="0" cy="614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7836"/>
            <p:cNvSpPr/>
            <p:nvPr/>
          </p:nvSpPr>
          <p:spPr>
            <a:xfrm>
              <a:off x="3731040" y="1315440"/>
              <a:ext cx="1985760" cy="1228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77837"/>
            <p:cNvSpPr/>
            <p:nvPr/>
          </p:nvSpPr>
          <p:spPr>
            <a:xfrm>
              <a:off x="3731040" y="3158280"/>
              <a:ext cx="1985760" cy="1228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port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 of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ship can be looked at in wider cultural context. The following forms of entrepreneurship can be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 business management and ownership, the interplay between individual an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oriented entrepreneurship, an individual’s self-oriented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sational 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s collect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terplay between organisational and individual entrepreneurshi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 of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ntrepreneu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ntrepreneur is a person who sees profitable opportunities as a challe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s someone who combines resources and ideas in one project in the aim to produce salable goods or ser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ntrepreneur is both an innovative and a risk-taking person with ideas and visions of how to make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ter’s: “Someone who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usiness at his or her 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ris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trepreneur is a person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takes the creation of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or business that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nce of profit (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businessman holding laptop"/>
          <p:cNvPicPr/>
          <p:nvPr/>
        </p:nvPicPr>
        <p:blipFill>
          <a:blip r:embed="rId1"/>
          <a:stretch/>
        </p:blipFill>
        <p:spPr>
          <a:xfrm>
            <a:off x="5181480" y="1600200"/>
            <a:ext cx="2033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our American progress has been the product of the individual who had an idea; pursued it; fashioned it; tenaciously clung to it against all odds; and then produced it, sold it and profited from i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, 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woman sitting on a chair with a laptop 5"/>
          <p:cNvPicPr/>
          <p:nvPr/>
        </p:nvPicPr>
        <p:blipFill>
          <a:blip r:embed="rId1"/>
          <a:stretch/>
        </p:blipFill>
        <p:spPr>
          <a:xfrm>
            <a:off x="304920" y="990720"/>
            <a:ext cx="2209680" cy="464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man writing in a book 11"/>
          <p:cNvPicPr/>
          <p:nvPr/>
        </p:nvPicPr>
        <p:blipFill>
          <a:blip r:embed="rId2"/>
          <a:stretch/>
        </p:blipFill>
        <p:spPr>
          <a:xfrm>
            <a:off x="2971800" y="1219320"/>
            <a:ext cx="2062080" cy="419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woman professional writing in book 3"/>
          <p:cNvPicPr/>
          <p:nvPr/>
        </p:nvPicPr>
        <p:blipFill>
          <a:blip r:embed="rId3"/>
          <a:stretch/>
        </p:blipFill>
        <p:spPr>
          <a:xfrm>
            <a:off x="1828800" y="2743200"/>
            <a:ext cx="21002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ho create new businesses primarily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globe 15"/>
          <p:cNvPicPr/>
          <p:nvPr/>
        </p:nvPicPr>
        <p:blipFill>
          <a:blip r:embed="rId1"/>
          <a:stretch/>
        </p:blipFill>
        <p:spPr>
          <a:xfrm>
            <a:off x="6705720" y="990720"/>
            <a:ext cx="20858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hat is Entrepreneurship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знања стручног енглеског језика из области менаџмен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 предузетништв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some success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ten in Chinese the w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osed of two characters. One represents danger and the other represents opport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. Kennedy, 19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647960" y="1600200"/>
            <a:ext cx="3678120" cy="4005000"/>
            <a:chOff x="4647960" y="1600200"/>
            <a:chExt cx="3678120" cy="4005000"/>
          </a:xfrm>
        </p:grpSpPr>
        <p:sp>
          <p:nvSpPr>
            <p:cNvPr id="186" name="_s83974"/>
            <p:cNvSpPr/>
            <p:nvPr/>
          </p:nvSpPr>
          <p:spPr>
            <a:xfrm>
              <a:off x="6629040" y="1600200"/>
              <a:ext cx="169704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83975"/>
            <p:cNvSpPr/>
            <p:nvPr/>
          </p:nvSpPr>
          <p:spPr>
            <a:xfrm>
              <a:off x="6324480" y="4190760"/>
              <a:ext cx="16966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Individua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83976"/>
            <p:cNvSpPr/>
            <p:nvPr/>
          </p:nvSpPr>
          <p:spPr>
            <a:xfrm>
              <a:off x="4647960" y="2361960"/>
              <a:ext cx="1697040" cy="169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83977"/>
            <p:cNvSpPr/>
            <p:nvPr/>
          </p:nvSpPr>
          <p:spPr>
            <a:xfrm>
              <a:off x="4724280" y="5181480"/>
              <a:ext cx="169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Opportunit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erson, Right Place, 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ess to crucial information -information helpful in recognizing opportunities or formulating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ble to utilize information - to combine it or interpret in ways that reveal the opportunities overlook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individuals use existing knowledge they have gained (and retained) from their experience to generate something new - thoughts they did not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ci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man holding paper 2"/>
          <p:cNvPicPr/>
          <p:nvPr/>
        </p:nvPicPr>
        <p:blipFill>
          <a:blip r:embed="rId1"/>
          <a:stretch/>
        </p:blipFill>
        <p:spPr>
          <a:xfrm>
            <a:off x="838080" y="1447920"/>
            <a:ext cx="19861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523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regulation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ing or developing this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a new business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ntique key 16"/>
          <p:cNvPicPr/>
          <p:nvPr/>
        </p:nvPicPr>
        <p:blipFill>
          <a:blip r:embed="rId1"/>
          <a:stretch/>
        </p:blipFill>
        <p:spPr>
          <a:xfrm>
            <a:off x="1905120" y="4343400"/>
            <a:ext cx="34671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ies of an entrepreneu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handle many tasks simultaneous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esses well-developed problem solving ski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liency in the face of set-ba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to work hard and not expec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deal with a series of tough issu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create solutions and work to perfect th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learn and acquire the necessary skill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sks a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uccessful entrepreneur brings about benefits not only for himself, but for the municipality, region or country as a wh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person sees profit opportunities where others do not: in new products, design, software, services, organization structur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dentifies an opportunity, pursues that opportunity beyond his current resources and believes that the opportunity can be achiev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come a successful entrepreneur, an individual needs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ositive thinker and a decisio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istent and determin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le to take prudent risks and initial responsibility if he wants his vision to become a suc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only some of the benefits that can be derived from entrepreneurial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ormous personal financial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employment, offering more job satisfaction and flexibility of the work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ment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of more industries, especially in rural areas or regions disadvantaged by economic changes, for example due to globalization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hat is Entrepreneurship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 предузетништв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the processing of local materials into finished goods for domestic consumption as well as for ex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generation and increased economic grow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competition thus encourages higher quality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oods and services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ew mar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ion of the use of modem technology in small-scale manufacturing to enhance higher produ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more researches and development of modem machines and equipment for domestic consum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entrepreneurial qualities and attitudes among potential entrepreneurs to bring about significant changes in the rural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from the dependency on the jobs offer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 of the inform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ntrepreneu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illars of entrepreneu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alities is a good entrepreneur supposed to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nd explain each of the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ting into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entrepreneurial can happen on a spectrum of points in a company's lifecy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reneurship can sometimes mean to start from scratch and create your own things, build out your team, try to recruit the right peop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mean joining an early-revenue start-up or a developing start-up that has an existing te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ting into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ain domain expertise and build out your network, a late stage start-up could be the right path for you, and even in an IPO-ed company you could find roles in which your day-to-day responsibilities are entrepreneu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your personality type, tolerance to ambiguity, and team and process skills, different stages of entrepreneurship will appeal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and 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 perspective - focuses on the behavior and thought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perspective - focuses primarily on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key in understanding the entrepreneuri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eye glasses 4"/>
          <p:cNvPicPr/>
          <p:nvPr/>
        </p:nvPicPr>
        <p:blipFill>
          <a:blip r:embed="rId1"/>
          <a:stretch/>
        </p:blipFill>
        <p:spPr>
          <a:xfrm>
            <a:off x="914400" y="4876920"/>
            <a:ext cx="346716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 a sort of duty to be rich, that it may be in one’s power to do goo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y Mary Mont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and holding money coins"/>
          <p:cNvPicPr/>
          <p:nvPr/>
        </p:nvPicPr>
        <p:blipFill>
          <a:blip r:embed="rId1"/>
          <a:stretch/>
        </p:blipFill>
        <p:spPr>
          <a:xfrm>
            <a:off x="0" y="31240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to proceed and assembl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ing a new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vesting the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2:42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